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76F-22E0-47BA-8F02-E8F948A2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09D-8447-47D1-9EEC-87A0460A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C25-5C98-4BFB-82F8-CDB42CCC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3AF-3A80-4F28-8BD6-E7391184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E4E-9DA1-4344-8D46-B52B184E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2F9-8A5D-4EA9-B987-585B4DA6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64F-7704-4ABA-88EC-0BC8CCA0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4C7-98B6-4069-BC10-227C0F06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FD0-BF7C-487B-86A5-92C62DBC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E06-4B61-4ED2-AB2F-B485CE4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6E0-17B8-4AE4-843B-1293AFAD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808-782E-48F4-80CA-96235349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560B-9252-44FA-9CF5-E3C0893C4C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Анализ дефейсов ресурсов корпорации </a:t>
            </a:r>
            <a:r>
              <a:rPr b="1" i="1" lang="ru-RU" sz="4000" spc="-1" strike="noStrike">
                <a:solidFill>
                  <a:srgbClr val="ccffff"/>
                </a:solidFill>
                <a:latin typeface="Arial Black"/>
              </a:rPr>
              <a:t>Microsoft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gene Sobolev aka aGGreSSo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ime Suspectz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0240" y="342900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!! What's happened! Another Micro$oft was hack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0wned by OutLaw Grou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266840"/>
            <a:ext cx="71629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CKED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i Master (: Your System Owned By Turkish Hacke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redLine 0wnz You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pecial Thanx And Greetz RudeBoy | SacReedSeer | The_Bekir And All Turkish Hack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ext target: microsof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ate: 18/06/2006 @ 19: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WERE HER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Arial"/>
              </a:rPr>
              <a:t>Own3d by Cyber-Terrorist </a:t>
            </a:r>
            <a:br>
              <a:rPr sz="4000"/>
            </a:br>
            <a:r>
              <a:rPr b="0" lang="ru-RU" sz="4000" spc="-1" strike="noStrike">
                <a:solidFill>
                  <a:srgbClr val="080808"/>
                </a:solidFill>
                <a:latin typeface="Arial"/>
              </a:rPr>
              <a:t>--Cyb3rT--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56236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0wned by rEmO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3:41:47Z</dcterms:created>
  <dc:creator>Екатерина</dc:creator>
  <dc:description/>
  <dc:language>en-US</dc:language>
  <cp:lastModifiedBy>111</cp:lastModifiedBy>
  <dcterms:modified xsi:type="dcterms:W3CDTF">2007-11-30T07:26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